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E2E4-4DA1-4090-95AF-0B9820845FE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7060-610C-46ED-887B-886BDA4F144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5F52-807A-446D-8794-D8E3FB134C9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11A5-C5B9-4FFA-93CB-4EE6B841843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8CF4-052A-4865-9A0D-B6FD6C7F087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4C1E-D970-41D3-99C9-F9253B786E7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81BD-F14C-4305-8D9F-7A86C9E217E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DB05-BBE4-4442-9BA3-DAC34BD5639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5050-E6E0-4FDF-8561-AC2282E215D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BDE9-9BA5-4D96-90DA-1A27D5B67B4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67E9-32D0-4DC5-B112-29AF67DF1B0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CDEA-B18C-4056-9B72-220E115ADEC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8D22-82B0-43EF-9C25-8836675F604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28DF-E763-43C1-B069-FF2923D3830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C6DB-DE33-4E1E-8E58-6F9B05AAECF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A2F3-2BF8-42A3-9DDE-6A1ADDEB4D5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6097-700B-4E52-87E0-4FE46DDB433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0962-7FC5-4E25-AD55-BF1886A997B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6412-6421-4BD4-87C3-C3C5835ADD2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85FC-2E79-427F-ABA0-4A8DDEF51AD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5677-5E45-491F-A981-A88C1EEA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7E43-5000-4F6A-8ED9-B13E13D6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4095-08BB-4C44-9F8F-08AA2F35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0650-1937-4506-B9C1-83838C32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F610B-648B-4E4C-9AEA-A8035CD8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40401-90FE-470E-B864-F13A05C1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7CD2B-39A2-4A44-9E03-B121AC6A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DA76F-9EB9-42FF-9D0C-EAF19F6B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70680-C979-4C1D-B683-42806C78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DEE7A-FD65-4FAC-9EEF-27C2C184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887B7-4155-4B6A-9CEE-AF8CB64C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50AC-FF01-4E3F-9C77-CE0BDDE2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8961A-E9D2-4928-96F2-5A8298B5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6959F-37A1-4161-A93D-6C36B4A6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45114-598C-4E23-9BBD-1681C6B3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4E11D-4CBD-4481-8ED5-A293FAE9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7CF6C-1798-4F4E-8B40-E3670C04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0B54-1C9D-4BC7-85FC-AAAFE17B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5996-0171-4875-87D5-BA20A806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62F0-B263-482F-90E0-8DA006DE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88B7-65F3-4DF7-B885-08CC2E54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4CF2-F94E-439A-8E9E-22A58750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325D-40CF-4DE1-B657-CD496F1B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DF4B-0D17-4CB3-9968-ED341147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358F-27CB-4385-BFE8-65D763CB1E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BEE1-C916-4D47-ABA9-73B48AC169A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http://images.google.co.uk/imgres?imgurl=http://www.scit.wlv.ac.uk/~jphb/canada/pictures/lake.peyto.1.gif&amp;imgrefurl=http://www.scit.wlv.ac.uk/~jphb/naw.index.html&amp;h=1044&amp;w=733&amp;sz=567&amp;tbnid=HzP_LM5NOloJ:&amp;tbnh=150&amp;tbnw=105&amp;start=10&amp;prev=/images%3Fq%3Dlake%26hl%3Den%26lr%3D%26sa%3D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.uk/imgres?imgurl=http://www.toscanaservice.it/sciareintoscana/images/neve.jpg&amp;imgrefurl=http://www.toscanaservice.it/sciareintoscana/abetone.htm&amp;h=250&amp;w=362&amp;sz=28&amp;tbnid=D4birkOyzZQJ:&amp;tbnh=80&amp;tbnw=115&amp;start=17&amp;prev=/images%3Fq%3Dsciare%26hl%3Den%26lr%3D%26sa%3DG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images.google.co.uk/imgres?imgurl=http://www.mundogym.com.ar/Secciones/Deportes/fotos/graf_extremos/alpinismo/alpinismo00110.jpg&amp;imgrefurl=http://www.mundogym.com.ar/Secciones/Deportes/fotos/graf_extremos/extremos.htm&amp;h=416&amp;w=537&amp;sz=28&amp;tbnid=ts8uT9YI3jAJ:&amp;tbnh=99&amp;tbnw=128&amp;start=6&amp;prev=/images%3Fq%3Dalpinismo%26hl%3Den%26lr%3D%26sa%3D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ages.google.co.uk/imgres?imgurl=http://www.val-gardena.com/maurobernardi/images/marine.jpg&amp;imgrefurl=http://www.val-gardena.com/maurobernardi/italiano/arrampicata.htm&amp;h=225&amp;w=150&amp;sz=22&amp;tbnid=hRL67PgUWlYJ:&amp;tbnh=102&amp;tbnw=68&amp;start=29&amp;prev=/images%3Fq%3Dalpinismo%26start%3D20%26hl%3Den%26lr%3D%26sa%3DN" TargetMode="External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masterbasket.com/Vacanze/le%2520passeggiate.JPG&amp;imgrefurl=http://www.masterbasket.com/vacanze.htm&amp;h=480&amp;w=640&amp;sz=50&amp;tbnid=8__q0muUPqEJ:&amp;tbnh=101&amp;tbnw=135&amp;start=9&amp;prev=/images%3Fq%3Dpasseggiate%2B%26hl%3Den%26lr%3D%26sa%3D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hyperlink" Target="http://images.google.co.uk/imgres?imgurl=http://www.agriturismo.pg.it/agriturismi/lago-trasimeno/beautyfarm-letorri/passeggiate-cavallo.jpg&amp;imgrefurl=http://www.agriturismo.pg.it/agriturismi/lago-trasimeno/beautyfarm-letorri/&amp;h=300&amp;w=400&amp;sz=18&amp;tbnid=V-ofU5sOfgoJ:&amp;tbnh=90&amp;tbnw=120&amp;start=7&amp;prev=/images%3Fq%3Dpasseggiate%2B%26hl%3Den%26lr%3D%26sa%3DG" TargetMode="External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images.google.co.uk/imgres?imgurl=http://www.adenet.es/aventura/Fotos-esc/canoa.jpg&amp;imgrefurl=http://www.adenet.es/aventura/canoa.htm&amp;h=488&amp;w=322&amp;sz=11&amp;tbnid=2Oh3sO4e-OUJ:&amp;tbnh=125&amp;tbnw=83&amp;start=6&amp;prev=/images%3Fq%3Dcanoa%26hl%3Den%26lr%3D%26sa%3DG" TargetMode="External"/><Relationship Id="rId3" Type="http://schemas.openxmlformats.org/officeDocument/2006/relationships/image" Target="../media/image26.jpeg"/><Relationship Id="rId4" Type="http://schemas.openxmlformats.org/officeDocument/2006/relationships/hyperlink" Target="http://images.google.co.uk/imgres?imgurl=http://www.itcgdomodossola.it/webStudenti/Finlandia-Jenni/images/soutu.jpg&amp;imgrefurl=http://www.itcgdomodossola.it/webStudenti/Finlandia-Jenni/cottage.htm&amp;h=268&amp;w=381&amp;sz=42&amp;tbnid=P-swiPXaiA8J:&amp;tbnh=83&amp;tbnw=117&amp;start=13&amp;prev=/images%3Fq%3Dbarca%2Ba%2Bremi%26hl%3Den%26lr%3D%26sa%3DG" TargetMode="External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http://images.google.co.uk/imgres?imgurl=http://www.scit.wlv.ac.uk/~jphb/canada/pictures/lake.peyto.1.gif&amp;imgrefurl=http://www.scit.wlv.ac.uk/~jphb/naw.index.html&amp;h=1044&amp;w=733&amp;sz=567&amp;tbnid=HzP_LM5NOloJ:&amp;tbnh=150&amp;tbnw=105&amp;start=10&amp;prev=/images%3Fq%3Dlake%26hl%3Den%26lr%3D%26sa%3D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.uk/imgres?imgurl=http://www.toscanaservice.it/sciareintoscana/images/neve.jpg&amp;imgrefurl=http://www.toscanaservice.it/sciareintoscana/abetone.htm&amp;h=250&amp;w=362&amp;sz=28&amp;tbnid=D4birkOyzZQJ:&amp;tbnh=80&amp;tbnw=115&amp;start=17&amp;prev=/images%3Fq%3Dsciare%26hl%3Den%26lr%3D%26sa%3DG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images.google.co.uk/imgres?imgurl=http://www.mundogym.com.ar/Secciones/Deportes/fotos/graf_extremos/alpinismo/alpinismo00110.jpg&amp;imgrefurl=http://www.mundogym.com.ar/Secciones/Deportes/fotos/graf_extremos/extremos.htm&amp;h=416&amp;w=537&amp;sz=28&amp;tbnid=ts8uT9YI3jAJ:&amp;tbnh=99&amp;tbnw=128&amp;start=6&amp;prev=/images%3Fq%3Dalpinismo%26hl%3Den%26lr%3D%26sa%3D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ages.google.co.uk/imgres?imgurl=http://www.val-gardena.com/maurobernardi/images/marine.jpg&amp;imgrefurl=http://www.val-gardena.com/maurobernardi/italiano/arrampicata.htm&amp;h=225&amp;w=150&amp;sz=22&amp;tbnid=hRL67PgUWlYJ:&amp;tbnh=102&amp;tbnw=68&amp;start=29&amp;prev=/images%3Fq%3Dalpinismo%26start%3D20%26hl%3Den%26lr%3D%26sa%3DN" TargetMode="External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masterbasket.com/Vacanze/le%2520passeggiate.JPG&amp;imgrefurl=http://www.masterbasket.com/vacanze.htm&amp;h=480&amp;w=640&amp;sz=50&amp;tbnid=8__q0muUPqEJ:&amp;tbnh=101&amp;tbnw=135&amp;start=9&amp;prev=/images%3Fq%3Dpasseggiate%2B%26hl%3Den%26lr%3D%26sa%3D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hyperlink" Target="http://images.google.co.uk/imgres?imgurl=http://www.agriturismo.pg.it/agriturismi/lago-trasimeno/beautyfarm-letorri/passeggiate-cavallo.jpg&amp;imgrefurl=http://www.agriturismo.pg.it/agriturismi/lago-trasimeno/beautyfarm-letorri/&amp;h=300&amp;w=400&amp;sz=18&amp;tbnid=V-ofU5sOfgoJ:&amp;tbnh=90&amp;tbnw=120&amp;start=7&amp;prev=/images%3Fq%3Dpasseggiate%2B%26hl%3Den%26lr%3D%26sa%3DG" TargetMode="External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images.google.co.uk/imgres?imgurl=http://www.adenet.es/aventura/Fotos-esc/canoa.jpg&amp;imgrefurl=http://www.adenet.es/aventura/canoa.htm&amp;h=488&amp;w=322&amp;sz=11&amp;tbnid=2Oh3sO4e-OUJ:&amp;tbnh=125&amp;tbnw=83&amp;start=6&amp;prev=/images%3Fq%3Dcanoa%26hl%3Den%26lr%3D%26sa%3DG" TargetMode="External"/><Relationship Id="rId3" Type="http://schemas.openxmlformats.org/officeDocument/2006/relationships/image" Target="../media/image26.jpeg"/><Relationship Id="rId4" Type="http://schemas.openxmlformats.org/officeDocument/2006/relationships/hyperlink" Target="http://images.google.co.uk/imgres?imgurl=http://www.itcgdomodossola.it/webStudenti/Finlandia-Jenni/images/soutu.jpg&amp;imgrefurl=http://www.itcgdomodossola.it/webStudenti/Finlandia-Jenni/cottage.htm&amp;h=268&amp;w=381&amp;sz=42&amp;tbnid=P-swiPXaiA8J:&amp;tbnh=83&amp;tbnw=117&amp;start=13&amp;prev=/images%3Fq%3Dbarca%2Ba%2Bremi%26hl%3Den%26lr%3D%26sa%3DG" TargetMode="External"/><Relationship Id="rId5" Type="http://schemas.openxmlformats.org/officeDocument/2006/relationships/image" Target="../media/image27.jpeg"/><Relationship Id="rId6" Type="http://schemas.openxmlformats.org/officeDocument/2006/relationships/hyperlink" Target="http://images.google.co.uk/imgres?imgurl=http://www.mallorcaweb.net/bitruband/bitrumans/portas%2520amaca.JPG&amp;imgrefurl=http://www.mallorcaweb.net/bitruband/Fotos.php&amp;h=856&amp;w=1136&amp;sz=93&amp;tbnid=tU0uAKVmcZkJ:&amp;tbnh=113&amp;tbnw=149&amp;start=2&amp;prev=/images%3Fq%3Damaca%26hl%3Den%26lr%3D%26sa%3DG" TargetMode="External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http://images.google.co.uk/imgres?imgurl=http://www.scit.wlv.ac.uk/~jphb/canada/pictures/lake.peyto.1.gif&amp;imgrefurl=http://www.scit.wlv.ac.uk/~jphb/naw.index.html&amp;h=1044&amp;w=733&amp;sz=567&amp;tbnid=HzP_LM5NOloJ:&amp;tbnh=150&amp;tbnw=105&amp;start=10&amp;prev=/images%3Fq%3Dlake%26hl%3Den%26lr%3D%26sa%3D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sardegna"/>
          <p:cNvPicPr/>
          <p:nvPr/>
        </p:nvPicPr>
        <p:blipFill>
          <a:blip r:embed="rId1"/>
          <a:stretch/>
        </p:blipFill>
        <p:spPr>
          <a:xfrm rot="20844600">
            <a:off x="536400" y="396720"/>
            <a:ext cx="4043520" cy="2660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apricale_carruggi1b"/>
          <p:cNvPicPr/>
          <p:nvPr/>
        </p:nvPicPr>
        <p:blipFill>
          <a:blip r:embed="rId2"/>
          <a:stretch/>
        </p:blipFill>
        <p:spPr>
          <a:xfrm rot="801600">
            <a:off x="5905440" y="531360"/>
            <a:ext cx="2679840" cy="2903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im000074"/>
          <p:cNvPicPr/>
          <p:nvPr/>
        </p:nvPicPr>
        <p:blipFill>
          <a:blip r:embed="rId3"/>
          <a:stretch/>
        </p:blipFill>
        <p:spPr>
          <a:xfrm rot="377400">
            <a:off x="1349280" y="3357360"/>
            <a:ext cx="2808360" cy="2447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giza"/>
          <p:cNvPicPr/>
          <p:nvPr/>
        </p:nvPicPr>
        <p:blipFill>
          <a:blip r:embed="rId4"/>
          <a:stretch/>
        </p:blipFill>
        <p:spPr>
          <a:xfrm rot="21130200">
            <a:off x="4355640" y="3645000"/>
            <a:ext cx="36734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4475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Visitar los monumen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acar fo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r al mus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ailar en la discote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r de compr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ad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omar el s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r a hacer ve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acer excu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squ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racticar el alpinis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acer escal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ar un paseo por el camp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acer un picni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ontar cabal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acer windsur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acer pirag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üis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Ir en bar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Relajar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05520" y="333000"/>
            <a:ext cx="4038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To ask/tell what you’re going to do in the future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2565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se the verb IR (to go) + a + infini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Voy a ir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a Madrid (I’ll be going  to Madri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R (to go)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am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a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A ti te toca…Pregunta a tu compañero o compañera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¿Dónde vas a ir de vacaciones el próximo año? Verano? Semana? Mes ? Fin de semana? Invierno? Dia?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¿Por cuánto tiemp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¿Qué vas a hacer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cm1"/>
          <p:cNvPicPr/>
          <p:nvPr/>
        </p:nvPicPr>
        <p:blipFill>
          <a:blip r:embed="rId1"/>
          <a:stretch/>
        </p:blipFill>
        <p:spPr>
          <a:xfrm>
            <a:off x="0" y="1413000"/>
            <a:ext cx="3046320" cy="19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marchio"/>
          <p:cNvPicPr/>
          <p:nvPr/>
        </p:nvPicPr>
        <p:blipFill>
          <a:blip r:embed="rId2"/>
          <a:stretch/>
        </p:blipFill>
        <p:spPr>
          <a:xfrm rot="529800">
            <a:off x="2626920" y="1484280"/>
            <a:ext cx="1873440" cy="2149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ampagna"/>
          <p:cNvPicPr/>
          <p:nvPr/>
        </p:nvPicPr>
        <p:blipFill>
          <a:blip r:embed="rId3"/>
          <a:stretch/>
        </p:blipFill>
        <p:spPr>
          <a:xfrm rot="21198600">
            <a:off x="250920" y="3141360"/>
            <a:ext cx="2025720" cy="2171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firenze"/>
          <p:cNvPicPr/>
          <p:nvPr/>
        </p:nvPicPr>
        <p:blipFill>
          <a:blip r:embed="rId4"/>
          <a:stretch/>
        </p:blipFill>
        <p:spPr>
          <a:xfrm>
            <a:off x="1908000" y="3573360"/>
            <a:ext cx="2160720" cy="1584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lak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58920" y="5157720"/>
            <a:ext cx="2590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sardegna"/>
          <p:cNvPicPr/>
          <p:nvPr/>
        </p:nvPicPr>
        <p:blipFill>
          <a:blip r:embed="rId1"/>
          <a:stretch/>
        </p:blipFill>
        <p:spPr>
          <a:xfrm rot="20844600">
            <a:off x="539640" y="404640"/>
            <a:ext cx="4043520" cy="2660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apricale_carruggi1b"/>
          <p:cNvPicPr/>
          <p:nvPr/>
        </p:nvPicPr>
        <p:blipFill>
          <a:blip r:embed="rId2"/>
          <a:stretch/>
        </p:blipFill>
        <p:spPr>
          <a:xfrm rot="801600">
            <a:off x="5905440" y="531360"/>
            <a:ext cx="2679840" cy="2903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im000074"/>
          <p:cNvPicPr/>
          <p:nvPr/>
        </p:nvPicPr>
        <p:blipFill>
          <a:blip r:embed="rId3"/>
          <a:stretch/>
        </p:blipFill>
        <p:spPr>
          <a:xfrm rot="377400">
            <a:off x="1349280" y="3357360"/>
            <a:ext cx="2808360" cy="2447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giza"/>
          <p:cNvPicPr/>
          <p:nvPr/>
        </p:nvPicPr>
        <p:blipFill>
          <a:blip r:embed="rId4"/>
          <a:stretch/>
        </p:blipFill>
        <p:spPr>
          <a:xfrm rot="21130200">
            <a:off x="4355640" y="3645000"/>
            <a:ext cx="3673440" cy="244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1996920"/>
            <a:ext cx="864072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ahoma"/>
              </a:rPr>
              <a:t>¿Qué hiciste el año pasado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¿El año pasado qué hiciste en una ciuda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3" descr="paris"/>
          <p:cNvPicPr/>
          <p:nvPr/>
        </p:nvPicPr>
        <p:blipFill>
          <a:blip r:embed="rId1"/>
          <a:stretch/>
        </p:blipFill>
        <p:spPr>
          <a:xfrm>
            <a:off x="2124000" y="1341360"/>
            <a:ext cx="2282760" cy="19814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isité los monumen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aqué fo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ui al muse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ailé en la discote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ui de compr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5" descr="turisti"/>
          <p:cNvPicPr/>
          <p:nvPr/>
        </p:nvPicPr>
        <p:blipFill>
          <a:blip r:embed="rId2"/>
          <a:stretch/>
        </p:blipFill>
        <p:spPr>
          <a:xfrm rot="21263400">
            <a:off x="-1440" y="2208240"/>
            <a:ext cx="2411280" cy="2143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museo-egizio"/>
          <p:cNvPicPr/>
          <p:nvPr/>
        </p:nvPicPr>
        <p:blipFill>
          <a:blip r:embed="rId3"/>
          <a:stretch/>
        </p:blipFill>
        <p:spPr>
          <a:xfrm rot="1100400">
            <a:off x="1763640" y="3068640"/>
            <a:ext cx="2521080" cy="1835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discoteca-il-muretto-jesolo"/>
          <p:cNvPicPr/>
          <p:nvPr/>
        </p:nvPicPr>
        <p:blipFill>
          <a:blip r:embed="rId4"/>
          <a:stretch/>
        </p:blipFill>
        <p:spPr>
          <a:xfrm rot="20727600">
            <a:off x="179280" y="4723920"/>
            <a:ext cx="2087640" cy="1563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web%20Shopping%202"/>
          <p:cNvPicPr/>
          <p:nvPr/>
        </p:nvPicPr>
        <p:blipFill>
          <a:blip r:embed="rId5"/>
          <a:stretch/>
        </p:blipFill>
        <p:spPr>
          <a:xfrm>
            <a:off x="2627280" y="4724280"/>
            <a:ext cx="186048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¿Qué hiciste en la montaña 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3" descr="marchio"/>
          <p:cNvPicPr/>
          <p:nvPr/>
        </p:nvPicPr>
        <p:blipFill>
          <a:blip r:embed="rId1"/>
          <a:stretch/>
        </p:blipFill>
        <p:spPr>
          <a:xfrm rot="21373800">
            <a:off x="324000" y="1699920"/>
            <a:ext cx="2016000" cy="17650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izo excur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squi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atiqué el alpinis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izo escal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5" descr="neve">
            <a:hlinkClick r:id="rId2"/>
          </p:cNvPr>
          <p:cNvPicPr/>
          <p:nvPr/>
        </p:nvPicPr>
        <p:blipFill>
          <a:blip r:embed="rId3"/>
          <a:stretch/>
        </p:blipFill>
        <p:spPr>
          <a:xfrm rot="601800">
            <a:off x="2771280" y="1483920"/>
            <a:ext cx="1871640" cy="1511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alpinismo0011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24000" y="3213000"/>
            <a:ext cx="1943280" cy="2016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marine">
            <a:hlinkClick r:id="rId6"/>
          </p:cNvPr>
          <p:cNvPicPr/>
          <p:nvPr/>
        </p:nvPicPr>
        <p:blipFill>
          <a:blip r:embed="rId7"/>
          <a:stretch/>
        </p:blipFill>
        <p:spPr>
          <a:xfrm rot="20884200">
            <a:off x="395280" y="4220640"/>
            <a:ext cx="1944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¿Qué hiciste en el campo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9047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 un paseo por el cam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izo un pic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onté a cabal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5" descr="le%2520passeggia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126828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picnic"/>
          <p:cNvPicPr/>
          <p:nvPr/>
        </p:nvPicPr>
        <p:blipFill>
          <a:blip r:embed="rId3"/>
          <a:stretch/>
        </p:blipFill>
        <p:spPr>
          <a:xfrm rot="21294000">
            <a:off x="252360" y="2752200"/>
            <a:ext cx="2662200" cy="2613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passeggiate-cavallo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56000" y="4292640"/>
            <a:ext cx="2087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¿Qué hiciste en el lago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3" descr="windsurf"/>
          <p:cNvPicPr/>
          <p:nvPr/>
        </p:nvPicPr>
        <p:blipFill>
          <a:blip r:embed="rId1"/>
          <a:stretch/>
        </p:blipFill>
        <p:spPr>
          <a:xfrm rot="20886600">
            <a:off x="379080" y="1483920"/>
            <a:ext cx="2000160" cy="16398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izo windsur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izo pira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ü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s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ui en bar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 relaj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5" descr="cano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11280" y="1989000"/>
            <a:ext cx="2016360" cy="1766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soutu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3357720"/>
            <a:ext cx="2449440" cy="1584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portas%2520amaca"/>
          <p:cNvPicPr/>
          <p:nvPr/>
        </p:nvPicPr>
        <p:blipFill>
          <a:blip r:embed="rId6"/>
          <a:stretch/>
        </p:blipFill>
        <p:spPr>
          <a:xfrm>
            <a:off x="2268360" y="4365720"/>
            <a:ext cx="23749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A ti te toca…Pregunta a tu compañero o compañera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¿Dónde fuiste el año pasad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¿Por cuánto tiemp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¿Qué hiciste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4" descr="cm1"/>
          <p:cNvPicPr/>
          <p:nvPr/>
        </p:nvPicPr>
        <p:blipFill>
          <a:blip r:embed="rId1"/>
          <a:stretch/>
        </p:blipFill>
        <p:spPr>
          <a:xfrm>
            <a:off x="0" y="1413000"/>
            <a:ext cx="3046320" cy="1981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marchio"/>
          <p:cNvPicPr/>
          <p:nvPr/>
        </p:nvPicPr>
        <p:blipFill>
          <a:blip r:embed="rId2"/>
          <a:stretch/>
        </p:blipFill>
        <p:spPr>
          <a:xfrm rot="529800">
            <a:off x="2626920" y="1484280"/>
            <a:ext cx="1873440" cy="2149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campagna"/>
          <p:cNvPicPr/>
          <p:nvPr/>
        </p:nvPicPr>
        <p:blipFill>
          <a:blip r:embed="rId3"/>
          <a:stretch/>
        </p:blipFill>
        <p:spPr>
          <a:xfrm rot="21198600">
            <a:off x="250920" y="3141360"/>
            <a:ext cx="2025720" cy="2171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firenze"/>
          <p:cNvPicPr/>
          <p:nvPr/>
        </p:nvPicPr>
        <p:blipFill>
          <a:blip r:embed="rId4"/>
          <a:stretch/>
        </p:blipFill>
        <p:spPr>
          <a:xfrm>
            <a:off x="1908000" y="3573360"/>
            <a:ext cx="2160720" cy="1584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lake"/>
          <p:cNvPicPr/>
          <p:nvPr/>
        </p:nvPicPr>
        <p:blipFill>
          <a:blip r:embed="rId5"/>
          <a:stretch/>
        </p:blipFill>
        <p:spPr>
          <a:xfrm>
            <a:off x="1258920" y="5157720"/>
            <a:ext cx="2590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LAS VACACION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5640" y="3933360"/>
            <a:ext cx="752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n el presente y en el pas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1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ff"/>
                </a:solidFill>
                <a:latin typeface="Tahoma"/>
              </a:rPr>
              <a:t>¿Dónde vas de vacaciones normalmente ?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10" descr="cm1"/>
          <p:cNvPicPr/>
          <p:nvPr/>
        </p:nvPicPr>
        <p:blipFill>
          <a:blip r:embed="rId1"/>
          <a:stretch/>
        </p:blipFill>
        <p:spPr>
          <a:xfrm>
            <a:off x="250920" y="1413000"/>
            <a:ext cx="2520720" cy="1871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oy a la co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oy a la montañ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oy al camp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oy a una ciu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oy al la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12" descr="marchio"/>
          <p:cNvPicPr/>
          <p:nvPr/>
        </p:nvPicPr>
        <p:blipFill>
          <a:blip r:embed="rId2"/>
          <a:stretch/>
        </p:blipFill>
        <p:spPr>
          <a:xfrm rot="529800">
            <a:off x="2050560" y="1773360"/>
            <a:ext cx="1873440" cy="2149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campagna"/>
          <p:cNvPicPr/>
          <p:nvPr/>
        </p:nvPicPr>
        <p:blipFill>
          <a:blip r:embed="rId3"/>
          <a:stretch/>
        </p:blipFill>
        <p:spPr>
          <a:xfrm rot="21198600">
            <a:off x="0" y="2923920"/>
            <a:ext cx="2025720" cy="2171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firenze"/>
          <p:cNvPicPr/>
          <p:nvPr/>
        </p:nvPicPr>
        <p:blipFill>
          <a:blip r:embed="rId4"/>
          <a:stretch/>
        </p:blipFill>
        <p:spPr>
          <a:xfrm>
            <a:off x="1763640" y="3716280"/>
            <a:ext cx="2160720" cy="158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3" descr="lak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4360" y="5157720"/>
            <a:ext cx="25905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¿Qué haces en una ciudad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3" descr="paris"/>
          <p:cNvPicPr/>
          <p:nvPr/>
        </p:nvPicPr>
        <p:blipFill>
          <a:blip r:embed="rId1"/>
          <a:stretch/>
        </p:blipFill>
        <p:spPr>
          <a:xfrm>
            <a:off x="2124000" y="1341360"/>
            <a:ext cx="2282760" cy="19814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isito los monumen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aco fo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oy al muse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ailo en la discote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oy de compr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turisti"/>
          <p:cNvPicPr/>
          <p:nvPr/>
        </p:nvPicPr>
        <p:blipFill>
          <a:blip r:embed="rId2"/>
          <a:stretch/>
        </p:blipFill>
        <p:spPr>
          <a:xfrm rot="21263400">
            <a:off x="-1440" y="2208240"/>
            <a:ext cx="2411280" cy="214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museo-egizio"/>
          <p:cNvPicPr/>
          <p:nvPr/>
        </p:nvPicPr>
        <p:blipFill>
          <a:blip r:embed="rId3"/>
          <a:stretch/>
        </p:blipFill>
        <p:spPr>
          <a:xfrm rot="1100400">
            <a:off x="1763640" y="3068640"/>
            <a:ext cx="2521080" cy="1835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discoteca-il-muretto-jesolo"/>
          <p:cNvPicPr/>
          <p:nvPr/>
        </p:nvPicPr>
        <p:blipFill>
          <a:blip r:embed="rId4"/>
          <a:stretch/>
        </p:blipFill>
        <p:spPr>
          <a:xfrm rot="20727600">
            <a:off x="179280" y="4723920"/>
            <a:ext cx="2087640" cy="1563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web%20Shopping%202"/>
          <p:cNvPicPr/>
          <p:nvPr/>
        </p:nvPicPr>
        <p:blipFill>
          <a:blip r:embed="rId5"/>
          <a:stretch/>
        </p:blipFill>
        <p:spPr>
          <a:xfrm>
            <a:off x="2627280" y="4724280"/>
            <a:ext cx="186048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¿Qué haces en la costa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omo el s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go ve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10" descr="swimming"/>
          <p:cNvPicPr/>
          <p:nvPr/>
        </p:nvPicPr>
        <p:blipFill>
          <a:blip r:embed="rId1"/>
          <a:stretch/>
        </p:blipFill>
        <p:spPr>
          <a:xfrm>
            <a:off x="395280" y="1413000"/>
            <a:ext cx="3168720" cy="1944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78602905uyMhjB_ph"/>
          <p:cNvPicPr/>
          <p:nvPr/>
        </p:nvPicPr>
        <p:blipFill>
          <a:blip r:embed="rId2"/>
          <a:stretch/>
        </p:blipFill>
        <p:spPr>
          <a:xfrm rot="20937600">
            <a:off x="250560" y="278136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7" descr="vela"/>
          <p:cNvPicPr/>
          <p:nvPr/>
        </p:nvPicPr>
        <p:blipFill>
          <a:blip r:embed="rId3"/>
          <a:stretch/>
        </p:blipFill>
        <p:spPr>
          <a:xfrm>
            <a:off x="2050920" y="4797360"/>
            <a:ext cx="21909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¿Qué haces en la montaña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6" descr="marchio"/>
          <p:cNvPicPr/>
          <p:nvPr/>
        </p:nvPicPr>
        <p:blipFill>
          <a:blip r:embed="rId1"/>
          <a:stretch/>
        </p:blipFill>
        <p:spPr>
          <a:xfrm rot="21373800">
            <a:off x="468360" y="1412640"/>
            <a:ext cx="2016000" cy="1765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go excur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squí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actico el alpinis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go escal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8" descr="neve">
            <a:hlinkClick r:id="rId2"/>
          </p:cNvPr>
          <p:cNvPicPr/>
          <p:nvPr/>
        </p:nvPicPr>
        <p:blipFill>
          <a:blip r:embed="rId3"/>
          <a:stretch/>
        </p:blipFill>
        <p:spPr>
          <a:xfrm rot="601800">
            <a:off x="2771280" y="1483920"/>
            <a:ext cx="1871640" cy="1511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alpinismo0011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24000" y="3213000"/>
            <a:ext cx="1943280" cy="2016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marine">
            <a:hlinkClick r:id="rId6"/>
          </p:cNvPr>
          <p:cNvPicPr/>
          <p:nvPr/>
        </p:nvPicPr>
        <p:blipFill>
          <a:blip r:embed="rId7"/>
          <a:stretch/>
        </p:blipFill>
        <p:spPr>
          <a:xfrm rot="20884200">
            <a:off x="395280" y="4220640"/>
            <a:ext cx="1944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¿Qué haces en el campo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047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y un paseo por el cam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go un pic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onto a cabal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9" descr="le%2520passeggia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126828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icnic"/>
          <p:cNvPicPr/>
          <p:nvPr/>
        </p:nvPicPr>
        <p:blipFill>
          <a:blip r:embed="rId3"/>
          <a:stretch/>
        </p:blipFill>
        <p:spPr>
          <a:xfrm rot="21294000">
            <a:off x="252360" y="2752200"/>
            <a:ext cx="2662200" cy="2613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asseggiate-cavallo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56000" y="4292640"/>
            <a:ext cx="2087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¿Qué haces en el lago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windsurf"/>
          <p:cNvPicPr/>
          <p:nvPr/>
        </p:nvPicPr>
        <p:blipFill>
          <a:blip r:embed="rId1"/>
          <a:stretch/>
        </p:blipFill>
        <p:spPr>
          <a:xfrm rot="20886600">
            <a:off x="379080" y="1483920"/>
            <a:ext cx="2000160" cy="1639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go windsur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go pira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ü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s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oy en bar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 rela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11" descr="cano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11280" y="1989000"/>
            <a:ext cx="2016360" cy="1766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soutu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3357720"/>
            <a:ext cx="2449440" cy="158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8" descr="portas%2520amaca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68360" y="4365720"/>
            <a:ext cx="23749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A ti te toca…Pregunta a tu compañero o compañera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¿Dónde vas de vacaciones normalment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¿Por cuánto tiemp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¿Qué hace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cm1"/>
          <p:cNvPicPr/>
          <p:nvPr/>
        </p:nvPicPr>
        <p:blipFill>
          <a:blip r:embed="rId1"/>
          <a:stretch/>
        </p:blipFill>
        <p:spPr>
          <a:xfrm>
            <a:off x="0" y="1413000"/>
            <a:ext cx="3046320" cy="1981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marchio"/>
          <p:cNvPicPr/>
          <p:nvPr/>
        </p:nvPicPr>
        <p:blipFill>
          <a:blip r:embed="rId2"/>
          <a:stretch/>
        </p:blipFill>
        <p:spPr>
          <a:xfrm rot="529800">
            <a:off x="2626920" y="1484280"/>
            <a:ext cx="1873440" cy="2149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ampagna"/>
          <p:cNvPicPr/>
          <p:nvPr/>
        </p:nvPicPr>
        <p:blipFill>
          <a:blip r:embed="rId3"/>
          <a:stretch/>
        </p:blipFill>
        <p:spPr>
          <a:xfrm rot="21198600">
            <a:off x="250920" y="3141360"/>
            <a:ext cx="2025720" cy="2171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firenze"/>
          <p:cNvPicPr/>
          <p:nvPr/>
        </p:nvPicPr>
        <p:blipFill>
          <a:blip r:embed="rId4"/>
          <a:stretch/>
        </p:blipFill>
        <p:spPr>
          <a:xfrm>
            <a:off x="1908000" y="3573360"/>
            <a:ext cx="2160720" cy="158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lak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58920" y="5157720"/>
            <a:ext cx="2590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8:10:06Z</dcterms:created>
  <dc:creator>ICT Services</dc:creator>
  <dc:description/>
  <dc:language>en-US</dc:language>
  <cp:lastModifiedBy>Carolyn</cp:lastModifiedBy>
  <dcterms:modified xsi:type="dcterms:W3CDTF">2011-03-01T21:21:15Z</dcterms:modified>
  <cp:revision>18</cp:revision>
  <dc:subject/>
  <dc:title>Slide 1</dc:title>
</cp:coreProperties>
</file>